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519-D245-4B89-B5D4-4CF49B17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472-FFB6-4F28-BEF5-49982C4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1E0-5BBD-4A19-9B2C-FE5C466A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ABE-8EA2-4F55-B307-75B4DA19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8F0-912E-49CF-83D6-5D2586D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B3E-D90A-44BF-8FA1-6F06EB7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246-6700-436D-958A-B96B41D0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1C0-F2D8-4383-B7C8-E9F3B886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D89-43EF-4C53-B706-638CD4E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3EA-B49C-4E1D-AB19-9E6A4CE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3CD-138F-4DE6-860E-F03C3D6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AD6-8BAF-48FD-84F6-56E5E03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347A-D2C9-47E8-BAFA-D363C2C5AA4A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Prof. dr Sanja Vlah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ka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28840" y="307188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Četvrtak, 20. februar 2014.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4200" y="1928880"/>
          <a:ext cx="8675640" cy="4572000"/>
        </p:xfrm>
        <a:graphic>
          <a:graphicData uri="http://schemas.openxmlformats.org/drawingml/2006/table">
            <a:tbl>
              <a:tblPr/>
              <a:tblGrid>
                <a:gridCol w="955800"/>
                <a:gridCol w="4933800"/>
                <a:gridCol w="1354320"/>
                <a:gridCol w="143172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Konkursa za sufinansiranje nacionalnih naučnoistraživačkih projekata u periodu 2012-2015. - Druga godina istraživanj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Ministarstva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drugih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C “Tehnopolis” Nikšić 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Glavni projekat za „Tehnopolis“-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Osnivački ulog za “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hnopolis“ –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8"/>
          <p:cNvSpPr/>
          <p:nvPr/>
        </p:nvSpPr>
        <p:spPr>
          <a:xfrm>
            <a:off x="539640" y="141300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FINANSIRANJE PREUZETIH  DOMAĆIH I MEĐUNARODNIH OBAVEZA I </a:t>
            </a:r>
            <a:br>
              <a:rPr sz="1400"/>
            </a:b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NASTAVAK  FINANSIRANJA REDOVNIH INSTRUMENATA U NAU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867280" y="141300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Bud</a:t>
            </a: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eta Ministars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7164360" y="141300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ostalih iz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5840" y="1500120"/>
          <a:ext cx="8389800" cy="5033880"/>
        </p:xfrm>
        <a:graphic>
          <a:graphicData uri="http://schemas.openxmlformats.org/drawingml/2006/table">
            <a:tbl>
              <a:tblPr/>
              <a:tblGrid>
                <a:gridCol w="846000"/>
                <a:gridCol w="5157720"/>
                <a:gridCol w="1308240"/>
                <a:gridCol w="107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 (3-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međunarod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kvirni program EU “Horizont 2020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Finansijsko učešće CG za 2014. godin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9.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bilateralne naučno-tehnološke saradnje (bilateralni naučnoistraživački projekti sa: Kinom; Austrijom; Italijom; Slovenijom; Hrvatskom; i Bi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EUREKA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CG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A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21.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1413000"/>
          <a:ext cx="9036000" cy="4686120"/>
        </p:xfrm>
        <a:graphic>
          <a:graphicData uri="http://schemas.openxmlformats.org/drawingml/2006/table">
            <a:tbl>
              <a:tblPr/>
              <a:tblGrid>
                <a:gridCol w="985680"/>
                <a:gridCol w="5421600"/>
                <a:gridCol w="1231560"/>
                <a:gridCol w="139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(8-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projekta  </a:t>
                      </a: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“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O″-</a:t>
                      </a: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Sredstva Svjetske banke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godina rada Centra uspješnos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istraživačka godina za krupne istraživačk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to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Studija o naučnoj dijaspor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2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Realizacija Konkursa za sufinansiranje naučnoistraživačke djelatnosti u 2014. godini  - sufinansiranje doktorskih studija talenata i mladih istraživača; programi stimulisanja učešća u EU programima (EUREKA i COST),  sufinansiranje mobilnosti istraživača</a:t>
                      </a: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; Organizovanje promotivnih događaja 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Dodjela godišnjih nagrada za naučna dostignuća u 201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mocija nauke - </a:t>
                      </a:r>
                      <a:r>
                        <a:rPr b="0" lang="sr-Latn-C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manifestacije „Otvoreni dani nauke“ - Donacij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z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72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192480" y="6103800"/>
          <a:ext cx="5951520" cy="397080"/>
        </p:xfrm>
        <a:graphic>
          <a:graphicData uri="http://schemas.openxmlformats.org/drawingml/2006/table">
            <a:tbl>
              <a:tblPr/>
              <a:tblGrid>
                <a:gridCol w="3022560"/>
                <a:gridCol w="1548000"/>
                <a:gridCol w="138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9.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557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 </a:t>
            </a:r>
            <a:br>
              <a:rPr sz="86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 MINISTARSTVO NAUKE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z sopstvenih izvora (kapitalnog i budžeta Ministarstva nauke), kao i ostalih izvora (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medjunarodni izvori i fondov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), naučnoistraživačka djelatnost u Crnoj Gori u 2014. godini biće finansir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u ukupnom iznosu od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ffff"/>
                </a:solidFill>
                <a:uFillTx/>
                <a:latin typeface="Calibri"/>
              </a:rPr>
              <a:t>4.766.525,00 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Calibri"/>
              </a:rPr>
              <a:t>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što predstavlja uveć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u odnosu na 2013. godinu od 222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Srdjan Kusovac</dc:creator>
  <dc:description/>
  <dc:language>en-US</dc:language>
  <cp:lastModifiedBy> </cp:lastModifiedBy>
  <dcterms:modified xsi:type="dcterms:W3CDTF">2014-02-20T12:09:11Z</dcterms:modified>
  <cp:revision>87</cp:revision>
  <dc:subject/>
  <dc:title>VLADA CRNE GORE  Savjet za privatizaciju i kapitalne projekte</dc:title>
</cp:coreProperties>
</file>